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EB53-E6FC-4E70-BA02-BE1923A44048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2A1D-63F6-4747-8E75-37070E111C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F964-2FA5-4C0E-8171-9E3132F3101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Espace réservé du pied de pag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Espace réservé du pied de page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Espace réservé du numéro de diapositiv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A40D-A1BE-4CA4-A7B2-A34937F65A2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Espace réservé du pied de page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Espace réservé du numéro de diapositiv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B0BD-A55A-4E07-8A3B-3AD6735A26D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776A-0011-432D-ACA6-28CC124FCC5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Espace réservé du pied de pag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110E-7527-40AE-978F-5BCC2B0916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2BC6D-6141-4D81-B043-A53CC681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249FC5-5E43-45A9-9ACD-B0AB7B83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8F8273-9F86-4679-9C78-224F407F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611334-7F9B-4DD7-A110-B5B83077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46CB37-5B4C-43C5-B0B6-76FEB0E5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08733C-F3CC-4664-977D-DFE2394A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D1268B-2741-40B1-82A6-6F41F43A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8C3016-AAE1-4A1D-9CD2-0FE56C62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DE4372-537C-400C-914C-A848272B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E671CB-9AAB-4F30-BC97-C322ABF0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21BC62-397A-4606-8578-B97369A0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173E4-22E2-4702-AE52-0D132650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44EBB9-96DE-42DD-9662-F9CE4842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BA1093-278D-44F5-A31D-39FA2697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E8F8B3-7DFE-40AC-8F13-D7506DF3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A400EF-6EDD-4392-B90F-15BFB831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DEE404-EA1D-4067-AC2D-97DD2CC4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7C123F-F93B-4C74-8DDD-07ABBA65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DD6599-B389-4951-B995-F1C6DECB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E4BCF8-1B6D-4AF6-B78B-A30F6B5B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31CAEA-6A91-4BCC-A06F-70D2A6CF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D79567-AEF0-4921-B032-AFA92B06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126CC-75BB-4B77-8B1D-86FA1A9EF8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C2CA98-672C-4F7D-9507-1F769FA4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C825F6-2405-4BA0-8A5E-B37A9F7BC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5CB47B-0AD0-42D2-8724-63923CBD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560943-9CC1-4857-A170-1BF0E5CC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99CFB4-6B75-4CFB-B62C-2E722CA3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614323-27E5-4EB4-AC25-919E4DEA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A237F3-0698-42EA-912E-50AB9F22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46F5CA-C38C-4AC4-942D-A7347B49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6F3EBE-74B1-4C0F-8E7A-4E66E088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6D4750-30AD-4764-B41A-3D4B6AC6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9E589-83EB-4280-8822-AACD56BA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BA54E1-60FB-46F6-9A3F-F4F0B540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372409-D430-44C0-82B5-25B208D8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8E3884-E266-4BDB-8737-818A81C3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3A7797-0EDE-4440-B6A9-95750F2B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DCA12D-3171-40C4-A861-FBA5C1E6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6805E3-94B5-4612-9D66-85C73ED7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20BA10-1F1F-45D9-8362-6F79604F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64F74E-27DC-4ACC-9151-BAAAFC18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5387FE-6358-4261-944F-AFE84D83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1EA148-333F-41B2-BE97-2A1AAE08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01927-A1B6-4A2F-AA25-326BC19D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0E02DA-918B-4B9F-A047-852BEB5B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CAC9A7-9552-4757-BDA3-9E9A3395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3CC000-8331-4558-A854-78AC3995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FEACE0-9C53-4072-8A85-5DEE8C06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2D4A37-D651-42E4-93ED-D362AAD5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448D9-986B-4E89-9CCE-E0004D4F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43AA8-8241-40E0-9024-F4F99356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25663-6C05-4CEA-A111-1A1E1E2A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B97C5-0451-431F-9687-3378D8DB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8EA71-91F2-4192-8E2D-9DE1AD56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AF6C-A842-437E-9933-31E895B2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7BE59-EC39-49B6-AB21-FA284411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8CACA-D481-487D-832E-7370E19A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607F3-8183-401F-9F3E-6A0BB5D1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A4AF5-1FD2-48A2-9384-7903114C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2254A-8BE3-4BBA-895F-2AABDC0D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A81030-9372-4EB6-832D-232840FE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394722-C396-4703-95F3-F335AE51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6C5BF2-95C3-4535-9CC1-7AEF014D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B66E9D-1D16-4757-A1A9-1D049387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4C055A-915A-42D9-AB28-3AC84E4B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13544-BFE1-41FE-BFF0-CBBCFABB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E93C21-6710-422F-BFBB-635FF7B3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6A3F36-F753-4611-A865-87C3FF45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4B2D16-4715-4D80-B1BE-8651E5CC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A23C2B-0E0A-4FB9-8326-3187628E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F16774-404D-4FC8-BA00-C0250A28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474C45-9BCA-435A-BE95-B223D744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60BFE-6A94-4115-85DD-591C9316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54EB2A-CECA-4457-971D-B8BF2A20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312225-7408-47BA-BEA5-8889297C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3B9A78-054A-489B-B8AD-63904FB6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65B96-614B-476F-AC81-880B52B5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15D015-B8AE-4F04-B695-2CE53A6A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D2EA71-5EC5-4F7A-8938-F23EE23A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082DD2-AC16-4804-843A-80154074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4D031D-23C2-44B4-93AC-12C11352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7E563F-C5F5-4DD7-8481-C8976C71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B23540-E7B6-4303-87F4-1B370C5E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A72B59-445D-4FEE-A4B8-29101E2F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F4F4EE-A888-4864-BFFC-C7430D92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A14A6A-3340-4BF5-8799-EC8AD603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A80C8A-32B9-4741-91FF-EA4E0A17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2DB4-0A70-4E40-A22C-FB72AD53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E3389E-0282-40C8-97B9-6B008F56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6AD159-B9C4-4CE9-AE92-0532A8DD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089305-F8CE-4DCC-A0FC-D3039AE5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7674FD-80E8-47FE-94DA-7F4683D0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ECB9AB-DB00-40D3-A56C-ADB04034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9F8F59-9515-49AF-AB49-96F23F4B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50ADFA-64E3-4B25-BD45-EE64C13C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6AE3D0-7930-4748-938D-977B4C8B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88D8EF-7D3C-4DD4-BD85-C0AB06C6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208A69-9960-49F1-97E4-6C70243DA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507CE-A360-44F8-9C9D-AE53A53C2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D254E0-AE4E-4E18-9019-6B4B90F4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8C2651-8C2B-4C6F-A26B-25451E02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B6CE96-7B68-40A0-B91C-21194731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846458-63AA-40F1-9BA5-EE8D49AC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2647D9-8F99-47C1-9EA3-FEB2CD69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19CA88-BABA-4438-B32D-AD70367F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490F75-46C4-40D7-8774-F644DCA2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2524D9-6466-4AC3-B8CC-A08420AD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356101-FB50-4647-B293-3583DA05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0E6A45-FBEC-44B6-80DB-24388788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AF941-9F15-4DA3-B185-850976C1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9573F0-BEE6-446C-BF55-C8A7FC38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C4F079-AA5E-432D-AA71-B8D76BABB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015244-6F6E-4622-835D-838051FB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BFD9B2-9508-4870-B9CA-81D43A8A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25B080-852D-43C1-9503-03E294F6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148E38-EBDD-42CC-83BA-8BEA8EDA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BAFA23-5AF8-41EB-B928-C0F9E2E3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94F008-4914-46F0-941F-D226514E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DEBA6E-F6C1-4860-90CC-F1E75E64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42DB93-7DF1-4C5D-9A62-4C5994CA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CEA6C-80C7-414A-AD05-D8763115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6EA3C1-193F-409F-A2F1-057481BA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0E13FB-BD8F-41FA-A0D4-A4BEB3FF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CBCA12-AA80-4AEB-A35D-6A5DB7A1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D65D89-F6A1-4A10-9A50-C5BF5C06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8D06BA-F65C-4097-B33E-8A124335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DD8E8A-E298-4DF0-AB90-8C421A16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1B2F07-2651-4CD0-8E89-30008149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A6E78F-D0EC-4502-B365-ED9961AB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B55F38-6ED7-4F48-BAC8-7ABFC5BE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4CE712-3585-4FF7-9AA8-A639DD0E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27AEE-B8D5-49EE-AF36-ED679A7F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8A8E8A-1F19-40AF-BD5D-C4F51E18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F53DD4-AFE9-4C51-9DBA-C96B089E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CF641A-07EE-46C5-9274-7A06DBA9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38844D-7AA6-4F18-A5BA-013B692A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CB57BB-910F-4D08-9C63-F4DCE6EA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B4AFFA-7C47-4477-B433-2C1309A7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9750AA-5F85-45C1-8F40-A0391C0C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017166-C111-47BF-8F17-B50A8F75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5C19F8-15F9-4408-9486-FA8CEB3B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EB1A85-4626-402B-ABB4-C2AEACAE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8009-5BBF-4730-B5E6-287CFDB7F420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DC48-6B96-499C-9E5E-BC431A0FC5C8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7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21C6-1099-4054-BE3D-19102A2B04C7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F72A-A8CD-4745-A9A2-4EED70E06BC2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30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8AAC-2248-4150-BC4C-2ADB1CF37BFD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0534-8B03-497A-BA59-A02D7D69B61F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3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11F1-EFC6-4516-8B55-9E43BA4899DA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5916-B69C-40DE-9F24-BC6F672D16CE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C125-0E9C-4BF1-B97D-6C866C83A49A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0DD8-BC50-4494-9E5E-CE298AC3B6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A1C4-EDA8-4C8A-894B-96E91CF90DB2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AC31-F1FF-4B81-ACE4-62295541E067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55E0-C11B-4674-A172-0B1730102F8A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B97A-F100-49CF-B743-5767CB291F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2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4F7B-2BF9-48B0-AD0C-EB7FB3D4CF5A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0F67-2B8F-46DA-A5DE-D81736EEA6CD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5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36DE-90B7-47B0-8E72-071CE30F0F17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25EA-DF1B-4EAE-84A1-282E637610C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8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768B-211A-422A-B64E-2BFA1EFE6AFA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3E8C-8EB3-45B5-AF92-34C4DD5D97B5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21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34ED-F60B-4527-AB48-6F0932F283EA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3312-D806-4170-8BF9-888FCC211AD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4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3A75-8EF0-4D6C-8462-21283788F613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0AB1-801B-44E6-BEA6-CB6EEB105D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randdictionnaire.com/btml/fra/r_motclef/index1024_1.asp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sp.ulaval.ca/docs/Le_plagiat_informer_sensibiliser_et_prevenir.pdf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sp.ulaval.ca/docs/Le_plagiat_informer_sensibiliser_et_prevenir.pdf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ibliotheques.uqam.ca/plagiat" TargetMode="External"/><Relationship Id="rId2" Type="http://schemas.openxmlformats.org/officeDocument/2006/relationships/hyperlink" Target="http://passeurdesciences.blog.lemonde.fr/2012/01/26/le-plagiat-un-mal-qui-frappe-aussi-la-science/" TargetMode="External"/><Relationship Id="rId3" Type="http://schemas.openxmlformats.org/officeDocument/2006/relationships/hyperlink" Target="http://archeologie-copier-coller.com/?p=65" TargetMode="External"/><Relationship Id="rId4" Type="http://schemas.openxmlformats.org/officeDocument/2006/relationships/hyperlink" Target="http://archeologie-copier-coller.com/?p=65" TargetMode="External"/><Relationship Id="rId5" Type="http://schemas.openxmlformats.org/officeDocument/2006/relationships/hyperlink" Target="http://archeologie-copier-coller.com/?p=65" TargetMode="External"/><Relationship Id="rId6" Type="http://schemas.openxmlformats.org/officeDocument/2006/relationships/hyperlink" Target="http://archeologie-copier-coller.com/?p=2499" TargetMode="External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34920" y="1781280"/>
            <a:ext cx="89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0" spc="-1" strike="noStrike">
                <a:solidFill>
                  <a:srgbClr val="a50021"/>
                </a:solidFill>
                <a:latin typeface="Arial"/>
              </a:rPr>
              <a:t>Qu’est ce que le plagiat ?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2"/>
          <p:cNvSpPr/>
          <p:nvPr/>
        </p:nvSpPr>
        <p:spPr>
          <a:xfrm>
            <a:off x="34920" y="4086360"/>
            <a:ext cx="8964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50021"/>
                </a:solidFill>
                <a:latin typeface="Palatino Linotype"/>
              </a:rPr>
              <a:t>Document préparé p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Palatino Linotype"/>
              </a:rPr>
              <a:t>Frédéric Isel et Yves Goubat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a50021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a50021"/>
                </a:solidFill>
                <a:latin typeface="Palatino Linotype"/>
              </a:rPr>
              <a:t>Université Paris Descar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a50021"/>
                </a:solidFill>
                <a:latin typeface="Palatino Linotype"/>
              </a:rPr>
              <a:t> </a:t>
            </a:r>
            <a:r>
              <a:rPr b="0" i="1" lang="fr-FR" sz="2400" spc="-1" strike="noStrike">
                <a:solidFill>
                  <a:srgbClr val="a50021"/>
                </a:solidFill>
                <a:latin typeface="Palatino Linotype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Espace réservé du pied de page 7"/>
          <p:cNvSpPr/>
          <p:nvPr/>
        </p:nvSpPr>
        <p:spPr>
          <a:xfrm>
            <a:off x="360360" y="6381720"/>
            <a:ext cx="1018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© Université Paris Nanterre – UFR PHILLIA - Département de sciences du langag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Image 8" descr="UPL_logo.png"/>
          <p:cNvPicPr/>
          <p:nvPr/>
        </p:nvPicPr>
        <p:blipFill>
          <a:blip r:embed="rId1"/>
          <a:stretch/>
        </p:blipFill>
        <p:spPr>
          <a:xfrm>
            <a:off x="4519440" y="189000"/>
            <a:ext cx="2068560" cy="1079280"/>
          </a:xfrm>
          <a:prstGeom prst="rect">
            <a:avLst/>
          </a:prstGeom>
          <a:ln w="0">
            <a:noFill/>
          </a:ln>
        </p:spPr>
      </p:pic>
      <p:pic>
        <p:nvPicPr>
          <p:cNvPr id="502" name="Image 6" descr=""/>
          <p:cNvPicPr/>
          <p:nvPr/>
        </p:nvPicPr>
        <p:blipFill>
          <a:blip r:embed="rId2"/>
          <a:stretch/>
        </p:blipFill>
        <p:spPr>
          <a:xfrm>
            <a:off x="324000" y="152280"/>
            <a:ext cx="3690720" cy="1116000"/>
          </a:xfrm>
          <a:prstGeom prst="rect">
            <a:avLst/>
          </a:prstGeom>
          <a:ln w="0">
            <a:noFill/>
          </a:ln>
        </p:spPr>
      </p:pic>
      <p:pic>
        <p:nvPicPr>
          <p:cNvPr id="503" name="Image 1" descr=""/>
          <p:cNvPicPr/>
          <p:nvPr/>
        </p:nvPicPr>
        <p:blipFill>
          <a:blip r:embed="rId3"/>
          <a:stretch/>
        </p:blipFill>
        <p:spPr>
          <a:xfrm>
            <a:off x="6877080" y="160200"/>
            <a:ext cx="18651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108000" y="115920"/>
            <a:ext cx="8567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a50021"/>
                </a:solidFill>
                <a:latin typeface="Arial"/>
              </a:rPr>
              <a:t>Informer, Sensibiliser, Prévenir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0" y="1916280"/>
            <a:ext cx="91440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Le plagiat : informer, sensibiliser et préveni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    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(Ressource Université Laval, Québec, Canad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Quiz sur le plagiat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(Ressource Université Laval, Québec, Canad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EEF3-F01C-4C2D-AD2A-06E3739CC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108000" y="115920"/>
            <a:ext cx="8567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a50021"/>
                </a:solidFill>
                <a:latin typeface="Arial"/>
              </a:rPr>
              <a:t>Références bibliographiques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74D9-DDC5-41FD-A6ED-EE7645EAB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ZoneTexte 5"/>
          <p:cNvSpPr/>
          <p:nvPr/>
        </p:nvSpPr>
        <p:spPr>
          <a:xfrm>
            <a:off x="179280" y="1324080"/>
            <a:ext cx="896472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Battisti, M. (2009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Des clics et des droits : le droit appliqué à l’image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. Paris : ADBS édi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Battisti, M., &amp; Association française des documentalistes et des bibliothécaires spécialisés. (2012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Quels droits pour copier aujourd’hui ? : copier et diffuser une œuvre dans l’environnement numérique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. Paris : ADBS éditions. En ligne : </a:t>
            </a:r>
            <a:br>
              <a:rPr sz="2000"/>
            </a:br>
            <a:r>
              <a:rPr b="0" lang="fr-FR" sz="1600" spc="-1" strike="noStrike">
                <a:solidFill>
                  <a:srgbClr val="000000"/>
                </a:solidFill>
                <a:latin typeface="Ebrima"/>
              </a:rPr>
              <a:t>https://frodon.univ-paris5.fr/http/parisdescartes.immateriel.fr/fr/ebook/978284365139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Maurel-Indart, H. (2011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Du plagiat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. Paris : Gallima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Moreau, É. (2011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Les droits d’auteur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. Paris : Transvalor-Presses des Mi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Stérin, A.-L. (2011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Guide pratique du droit d’auteur : utiliser en toute légalité textes, photos, films, musiques, Internet. 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Paris : Maxima-Laurent Du Mesnil é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504720" y="115920"/>
            <a:ext cx="896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a50021"/>
                </a:solidFill>
                <a:latin typeface="Arial"/>
                <a:ea typeface="Arial"/>
              </a:rPr>
              <a:t>Le plagiat :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95280" y="1484280"/>
            <a:ext cx="820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Plusieurs définitions et plusieurs formes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95280" y="2997360"/>
            <a:ext cx="91440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Définition du grand dictionnaire terminologique :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« Utilisation des écrits d'autrui sans mention d'emprunt » 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 (</a:t>
            </a:r>
            <a:r>
              <a:rPr b="0" lang="fr-FR" sz="2600" spc="-1" strike="noStrike" u="sng">
                <a:solidFill>
                  <a:srgbClr val="0000ff"/>
                </a:solidFill>
                <a:uFillTx/>
                <a:latin typeface="Ebrima"/>
                <a:hlinkClick r:id="rId1"/>
              </a:rPr>
              <a:t>Office de la langue française, 1990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2055-78F6-4C96-8FCD-FC57A5DD7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lus généralement, « le </a:t>
            </a: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plagiat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consiste à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0" y="1413000"/>
            <a:ext cx="914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Ebrima"/>
              </a:rPr>
              <a:t>s’attribuer</a:t>
            </a:r>
            <a:r>
              <a:rPr b="0" lang="en-GB" sz="2800" spc="-1" strike="noStrike">
                <a:solidFill>
                  <a:srgbClr val="000000"/>
                </a:solidFill>
                <a:latin typeface="Ebrima"/>
              </a:rPr>
              <a:t> les propos, les productions ou les idées d’autrui, sans citer la source ou l’auteur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0" y="2565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s’approprier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contenus disponibles sur Internet, en format texte, audio, vidéo, image ou autre sans citer la source ou en paraphrasant de manière inadéquate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-1440" y="4292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agir de manière à contourner les règle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énoncées lors des travaux d’évaluation. 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DCED-CBFC-4746-9C9E-E450CBBAFF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0" y="11592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a50021"/>
                </a:solidFill>
                <a:latin typeface="Arial"/>
              </a:rPr>
              <a:t>Pratiques associées au copier-coller 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0" y="1052640"/>
            <a:ext cx="914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Ebrima"/>
              </a:rPr>
              <a:t>Copier</a:t>
            </a:r>
            <a:r>
              <a:rPr b="0" lang="en-GB" sz="2800" spc="-1" strike="noStrike">
                <a:solidFill>
                  <a:srgbClr val="a50021"/>
                </a:solidFill>
                <a:latin typeface="Ebrima"/>
              </a:rPr>
              <a:t> </a:t>
            </a:r>
            <a:r>
              <a:rPr b="1" lang="en-GB" sz="2800" spc="-1" strike="noStrike">
                <a:solidFill>
                  <a:srgbClr val="a50021"/>
                </a:solidFill>
                <a:latin typeface="Ebrima"/>
              </a:rPr>
              <a:t>le travail d’un étudiant </a:t>
            </a:r>
            <a:r>
              <a:rPr b="0" lang="en-GB" sz="2800" spc="-1" strike="noStrike">
                <a:solidFill>
                  <a:srgbClr val="000000"/>
                </a:solidFill>
                <a:latin typeface="Ebrima"/>
              </a:rPr>
              <a:t>ayant suivi le cours lors d’une session précédente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0" y="213372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Réaliser un travail en mode copier-coller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à partir de plusieurs sources non citées ou non contextualisée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-1440" y="314172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Changer uniquement quelques mot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 copier le texte intégralement (plagiat délibéré ou paraphraser de manière inadéquate)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36360" y="458136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Citer en omettant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guillemet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36360" y="515772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Résumer sans attribuer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idée à l’aute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6917-E026-44DD-B7D5-CF5ECEEE1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oneTexte 14"/>
          <p:cNvSpPr/>
          <p:nvPr/>
        </p:nvSpPr>
        <p:spPr>
          <a:xfrm>
            <a:off x="179280" y="5837400"/>
            <a:ext cx="87854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Ebrima"/>
              </a:rPr>
              <a:t>Source : </a:t>
            </a:r>
            <a:r>
              <a:rPr b="0" lang="fr-FR" sz="1700" spc="-1" strike="noStrike" u="sng">
                <a:solidFill>
                  <a:srgbClr val="0000ff"/>
                </a:solidFill>
                <a:uFillTx/>
                <a:latin typeface="Ebrima"/>
                <a:hlinkClick r:id="rId1"/>
              </a:rPr>
              <a:t>http://www.bsp.ulaval.ca/docs/Le_plagiat_informer_sensibiliser_et_prevenir.pd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Ebrima"/>
              </a:rPr>
              <a:t>(Université Laval, Québec, Canada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4920" y="115920"/>
            <a:ext cx="936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Ebrima"/>
              </a:rPr>
              <a:t>Plusieurs facteurs peuvent amener un.e étudiant.e à plagier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0" y="83664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ne sait pas comment faire le travail demandé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-1440" y="1486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a de la difficulté à s’organiser et à gérer son temps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-36360" y="2131920"/>
            <a:ext cx="9431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manque d’expérience en matière de bonnes pratiques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36360" y="278136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veut contourner les exigences ; il/elle pense que l’enseignant ne s’en rendra pas compte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34920" y="378936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vise uniquement à obtenir la note de passage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36360" y="4365720"/>
            <a:ext cx="914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veut défier l’autorité ou perçoit qu’il y a peu de conséquences au plagiat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36360" y="537372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a peu d’intérêt pour le cours ou pour le champ d’étu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97F2-FF24-4DA1-81D7-4CADF9CD1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ZoneTexte 11"/>
          <p:cNvSpPr/>
          <p:nvPr/>
        </p:nvSpPr>
        <p:spPr>
          <a:xfrm>
            <a:off x="179280" y="6275520"/>
            <a:ext cx="87854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Ebrima"/>
              </a:rPr>
              <a:t>Source : </a:t>
            </a:r>
            <a:r>
              <a:rPr b="0" lang="fr-FR" sz="1700" spc="-1" strike="noStrike" u="sng">
                <a:solidFill>
                  <a:srgbClr val="0000ff"/>
                </a:solidFill>
                <a:uFillTx/>
                <a:latin typeface="Ebrima"/>
              </a:rPr>
              <a:t>http://</a:t>
            </a:r>
            <a:r>
              <a:rPr b="0" lang="fr-FR" sz="1700" spc="-1" strike="noStrike" u="sng">
                <a:solidFill>
                  <a:srgbClr val="0000ff"/>
                </a:solidFill>
                <a:uFillTx/>
                <a:latin typeface="Ebrima"/>
                <a:hlinkClick r:id="rId1"/>
              </a:rPr>
              <a:t>www.bsp.ulaval.ca/docs/Le_plagiat_informer_sensibiliser_et_prevenir.pd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Ebrima"/>
              </a:rPr>
              <a:t>(Université Laval, Québec, Canada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34920" y="-100080"/>
            <a:ext cx="504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a50021"/>
                </a:solidFill>
                <a:latin typeface="Arial"/>
                <a:ea typeface="Arial"/>
              </a:rPr>
              <a:t>Le plagiat : 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0" y="105264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Il s’agit d’un </a:t>
            </a: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acte frauduleux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qui, lorsqu’il est découvert dans les travaux universitaires, est </a:t>
            </a:r>
            <a:r>
              <a:rPr b="1" lang="fr-FR" sz="2600" spc="-1" strike="noStrike">
                <a:solidFill>
                  <a:srgbClr val="a50021"/>
                </a:solidFill>
                <a:latin typeface="Ebrima"/>
              </a:rPr>
              <a:t>sanctionné</a:t>
            </a: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240" y="306864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Logiciel d’aide à la </a:t>
            </a: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détection de plagiat (Compilatio.net) </a:t>
            </a: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 vérification des contenus numériques (étudiants/enseignant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0" y="4292640"/>
            <a:ext cx="9144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Attention : ce n’est pas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parce qu’un document ou une information est librement accessible sur internet qu’elle peut être utilisée sans en mentionner l’auteur et l’origine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0" y="5805360"/>
            <a:ext cx="9144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Toute utilisation d’un texte d’autrui </a:t>
            </a:r>
            <a:r>
              <a:rPr b="1" lang="en-GB" sz="2600" spc="-1" strike="noStrike">
                <a:solidFill>
                  <a:srgbClr val="a50021"/>
                </a:solidFill>
                <a:latin typeface="Ebrima"/>
              </a:rPr>
              <a:t>doit respecter </a:t>
            </a:r>
            <a:r>
              <a:rPr b="0" lang="en-GB" sz="2600" spc="-1" strike="noStrike">
                <a:solidFill>
                  <a:srgbClr val="a50021"/>
                </a:solidFill>
                <a:latin typeface="Ebrima"/>
              </a:rPr>
              <a:t>les règles de cita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4776-34D1-4AF6-94CC-387ED6D438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0" y="213372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Les étudiants convaincus de plagiat peuvent être traduits devant la </a:t>
            </a:r>
            <a:r>
              <a:rPr b="0" lang="fr-FR" sz="2600" spc="-1" strike="noStrike">
                <a:solidFill>
                  <a:srgbClr val="c00000"/>
                </a:solidFill>
                <a:latin typeface="Ebrima"/>
              </a:rPr>
              <a:t>section disciplinaire de l'Université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34920" y="-162000"/>
            <a:ext cx="11306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Sanctions disciplinaires applicables :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0" y="105264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En fonction de la gravité des faits, les sanctions disciplinaires applicables aux usagers sont les suivantes</a:t>
            </a: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30EE-DFA8-44CB-B33E-29C9E9CDF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0" y="2709720"/>
            <a:ext cx="9144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L’avertissement, le blâme, l’exclusion temporaire pour une durée maximale de cinq ans ou l’exclusion définitive de l’université ou de tout établissement public d’enseignement supérieur, avec ou sans sursis.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179280" y="115920"/>
            <a:ext cx="85694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a50021"/>
                </a:solidFill>
                <a:latin typeface="Arial"/>
                <a:ea typeface="Arial"/>
              </a:rPr>
              <a:t>Lectures web sur le plagiat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ZoneTexte 3"/>
          <p:cNvSpPr/>
          <p:nvPr/>
        </p:nvSpPr>
        <p:spPr>
          <a:xfrm>
            <a:off x="250920" y="1557360"/>
            <a:ext cx="849780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« 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1"/>
              </a:rPr>
              <a:t>Le plagiat</a:t>
            </a: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 » (Service des bibliothèques de l'Université du Québec à Montré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« 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2"/>
              </a:rPr>
              <a:t>Le plagiat, un mal qui frappe aussi la science</a:t>
            </a: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 » (billet de blog « Passeur de sciences », 20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3"/>
              </a:rPr>
              <a:t>« Février 2006 : bilan de l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4"/>
              </a:rPr>
              <a:t>’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5"/>
              </a:rPr>
              <a:t>analyse de 30 mémoires de DEA</a:t>
            </a: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 » (billet de blog « Archéologie du copier-coller », 200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« 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6"/>
              </a:rPr>
              <a:t>Les bibliothécaires face aux thèses plagiats</a:t>
            </a: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 » (billet de blog « Archéologie du copier-coller », 20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E00F-4475-4734-A5A3-39F2408AD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250920" y="4428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a50021"/>
                </a:solidFill>
                <a:latin typeface="Arial"/>
                <a:ea typeface="Arial"/>
              </a:rPr>
              <a:t>Tutoriels sur le plagiat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0" y="1413000"/>
            <a:ext cx="9144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Ebrima"/>
              </a:rPr>
              <a:t>« </a:t>
            </a: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Comment éviter le plagiat ?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» 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(Service des bibliothèques de l'Université du Québec à Montréa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« Comment citer dans le texte ?</a:t>
            </a: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» 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(Service des bibliothèques de l'Université du Québec à Montréa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87C9-971E-4032-84B1-62A45347D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8:53:43Z</dcterms:created>
  <dc:creator>François</dc:creator>
  <dc:description/>
  <dc:language>en-US</dc:language>
  <cp:lastModifiedBy>lacheret</cp:lastModifiedBy>
  <dcterms:modified xsi:type="dcterms:W3CDTF">2018-09-21T12:42:16Z</dcterms:modified>
  <cp:revision>96</cp:revision>
  <dc:subject/>
  <dc:title>Slide 1</dc:title>
</cp:coreProperties>
</file>